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D918-AE9A-4037-AF99-EB713D420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509D-6AD6-4301-A6A3-252A26F8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7A68-11B7-4FDD-8B43-9599402CC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D46B-179D-4C6A-88CE-811A9656A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BB32-A5F9-4D98-9B32-7609FEF7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A30C-3E85-4D20-A41D-93A8E23A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3818-96F1-41D9-89C5-33389C43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29BB-D466-4345-9896-0E616C7A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48DD-3091-46FF-9B69-17732F05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1EAB-09E8-48A9-8379-9F9F6FAF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E9A4-EF75-47E5-A5D0-F271F8BF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1ECC-093C-43C4-A218-AB9C310A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9144000" cy="190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BB4C-1637-4CB8-861A-0EC1630ABFC0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ЕК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ИМОРФ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ИЗАМ ЉУДСКОГ МОЗГ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190620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Tahoma"/>
              </a:rPr>
              <a:t>Мушки мозак је тежи (за око 60г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Tahoma"/>
              </a:rPr>
              <a:t>Мушки мозак је већи, док је густина неурона у кортексу жене, већа у поређењу са мозгом мушкарца (4000 неурона више по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c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ffffff"/>
                </a:solidFill>
                <a:latin typeface="Tahoma"/>
              </a:rPr>
              <a:t>Полно диморфна подручја:</a:t>
            </a:r>
            <a:br>
              <a:rPr sz="1400"/>
            </a:br>
            <a:r>
              <a:rPr b="0" lang="sr-RS" sz="1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adhessio interthalamica</a:t>
            </a:r>
            <a:br>
              <a:rPr sz="1400"/>
            </a:b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- splenium corpus callosi</a:t>
            </a:r>
            <a:br>
              <a:rPr sz="1400"/>
            </a:b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sr-RS" sz="1400" spc="-1" strike="noStrike">
                <a:solidFill>
                  <a:srgbClr val="ffffff"/>
                </a:solidFill>
                <a:latin typeface="Tahoma"/>
              </a:rPr>
              <a:t>преоптичко подручје хипоталамуса</a:t>
            </a:r>
            <a:br>
              <a:rPr sz="1400"/>
            </a:br>
            <a:r>
              <a:rPr b="0" lang="sr-RS" sz="1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planum temporale</a:t>
            </a:r>
            <a:br>
              <a:rPr sz="1400"/>
            </a:b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- bed nucleus striae terminalis</a:t>
            </a:r>
            <a:br>
              <a:rPr sz="1400"/>
            </a:b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- nc. tractus diagonalis</a:t>
            </a:r>
            <a:br>
              <a:rPr sz="1400"/>
            </a:b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- gyrus frontalis superior</a:t>
            </a:r>
            <a:br>
              <a:rPr sz="1400"/>
            </a:b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- gyrus frontalis medius</a:t>
            </a:r>
            <a:br>
              <a:rPr sz="1400"/>
            </a:br>
            <a:r>
              <a:rPr b="0" lang="sr-RS" sz="1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gyrus frontalis inferior</a:t>
            </a:r>
            <a:br>
              <a:rPr sz="1400"/>
            </a:b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- gyrus cinguli</a:t>
            </a:r>
            <a:br>
              <a:rPr sz="1400"/>
            </a:b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- gyrus temporalis superior</a:t>
            </a:r>
            <a:br>
              <a:rPr sz="1400"/>
            </a:b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- gyrus lingualis</a:t>
            </a:r>
            <a:br>
              <a:rPr sz="1400"/>
            </a:b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- Onuf-o</a:t>
            </a:r>
            <a:r>
              <a:rPr b="0" lang="sr-RS" sz="1400" spc="-1" strike="noStrike">
                <a:solidFill>
                  <a:srgbClr val="ffffff"/>
                </a:solidFill>
                <a:latin typeface="Tahoma"/>
              </a:rPr>
              <a:t>во једро кичмене мождине</a:t>
            </a:r>
            <a:br>
              <a:rPr sz="1400"/>
            </a:b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- amygdal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.......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ЕК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ИМОРФНО ЈЕДР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ЕОПТИЧКО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ДРУЧЈ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ХИПОТХАЛАМУ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190620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Позиција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једра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: area praeoptica hypothalami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између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nucleus praeopticus hypothalami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nucleus paraventricularis hypothalami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sr-RS" sz="2200" spc="-1" strike="noStrike">
                <a:solidFill>
                  <a:srgbClr val="ffffff"/>
                </a:solidFill>
                <a:latin typeface="Times New Roman"/>
              </a:rPr>
              <a:t>кс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диморфно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једро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преоптичке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регије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хипоталамуса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2,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5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пута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већег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волумена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мушкарца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го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Број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лија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ј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так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ђе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дв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струко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већи</a:t>
            </a:r>
            <a:r>
              <a:rPr b="0" lang="sr-RS" sz="2200" spc="-1" strike="noStrike">
                <a:solidFill>
                  <a:srgbClr val="ffffff"/>
                </a:solidFill>
                <a:latin typeface="Times New Roman"/>
              </a:rPr>
              <a:t>  (2,2 пута)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мушк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рц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него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жена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(Swaab et al. 1988.  Hofmann et al. 1989. Gorski et al. 1978.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Развојне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карактеристике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2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до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4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године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живота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су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једнаке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међу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половима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Посла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тога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секс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диморфно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једро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увећава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мушкарца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, a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бр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ј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ћелиј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см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њуј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п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зн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жив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тн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бу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мушк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рц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ffffff"/>
                </a:solidFill>
                <a:latin typeface="Times New Roman"/>
              </a:rPr>
              <a:t>Лоцирано у подручју битном за ослобађање гонадотропина и за сексуално понашањ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ЕКС ДИМОРФНЕ РАЗЛИК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ГОВОРНО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РТЕК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Асоцијативн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акустичк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ртек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ланум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емпорал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оминантн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хемисфер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бласт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ccomono-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ен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казуј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ражениј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функционалн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арактеристик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Густина ћелија је за 11% већа код же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четврт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лој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ртекс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аре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1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аламус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лаз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11%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виш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влакан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ен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го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ушкарц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што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овор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разитој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гнитивној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дност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ов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н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функциј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ен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(Withelson et al.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ЕК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ИМОРФН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АЗЛИК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UCLEUS STRIA TERMINAL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стеромедијалн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е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Nucleus striae terminalis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казуј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екс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иморфизам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овек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азлик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олумену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Nucleus stria terminalis (BNST-dspm)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у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2,4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ут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ећ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мушкарц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ег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ен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Gorski 1990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Овај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егион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одговоран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ексуалн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нашањ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гресивнос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гонадотропин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екрецију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тероид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Allen et al. 1990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Главн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ез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ST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олаз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y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la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рек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tria terminalis.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омплекс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астављен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з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ST,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централно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медијално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једр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мигдал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ос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зи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“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родужен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мигдал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” (Olmos et al. 1985,  Price et.al. 1987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ЕК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ИМОРФН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АЗЛИК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АКРАЛНО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ЕЛ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ИЧМЕН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ОЖДИН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58560" y="1752480"/>
            <a:ext cx="7885080" cy="55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uf-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о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једро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Onufrowich)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лаз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акралном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елу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edulae spinalis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1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Њег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ин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пецијалн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мотонеурон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ој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у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једн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оматск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утономн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Једр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нервиш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еринеалн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мишић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ој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чествују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опулациј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(Koliatsos et al. 1994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Мушкарц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мају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значајн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ећ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олумен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једр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ен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(Forger et al. 1986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uf-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ов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једр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везан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акралним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ар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имп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тикус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Holstege i Tan 1987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иректн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ез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олаз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з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VN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ипоталамус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миотрофичк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тер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лн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клероз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Ону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ов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једр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азлику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околних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оматских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мо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еур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ЕК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ДИМОРФИЗА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НЕУРОНСКИ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ТИПОВ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ЕПТАЛНО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ОДРУЧ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ЧОВЕ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CLEUS TRACTUS DIAGONAL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cleus Tractus Diagonalis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адрж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себан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елијск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тип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еурон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Т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огромн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елиј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еличин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20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микрон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фузиформн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мултиполарно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тип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ој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ђен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ам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ен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о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мушкарц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ису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седовал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Toševski et al. 1993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Овај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тип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еурон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лаз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ертикалној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ивизиј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једр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ијагоналн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трак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ве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дручју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богато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рвним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удовим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строглијом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казан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у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онтакт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ставак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рвним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удовим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строцитим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ЕК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ДИМОРФИЗА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ФУНКЦИОНАЛНО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РГАНИЗАЦИЈ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ГОВОРНИ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ОДРУЧ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ОР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Мето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 Ф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нкционалн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магнетн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езонан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стој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значајн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азлик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фонолошким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одговорима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ен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мушкарц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мушкарц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стој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ктивациј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yrus frontalis inferior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леве стран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,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о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ен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јављ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ифузн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ктивациј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ортекс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кључујућ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леву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есну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оњу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еону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ијугу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Shaywitz et al. 199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ЕК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ДИМОРФ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ТРУКТУРАЛ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РАЗЛИ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ОРТИКАЛНИ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ОЉИ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ДГОВОРНИ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ВЕРБАЛ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ОНАШАЊ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Мето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Магнетн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езонанц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одређивањ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олумен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ив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мас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ОРЗОЛАТЕРАЛНО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РЕФРОНТАЛНО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ОРТЕКС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ГОРЊ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ЕОН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ИЈУГ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ен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мају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23,2%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ећ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олумен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орзолатералном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рефронталном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ортексу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12,8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%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ећ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олумен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ив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мас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gyrus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emporali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uperior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мушкарац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(Schlaepfer et al. 1995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Об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ортикалн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љ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з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говор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AREA BROCCA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REA WERNICKE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у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значајн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ећ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ен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ег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мушкарац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 (Harasy et al. 1997),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мето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тереолошк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нализ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еријских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ресек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Nissl-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3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микрон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3T08:54:44Z</dcterms:created>
  <dc:creator>Tosevski Jova</dc:creator>
  <dc:description/>
  <dc:language>en-US</dc:language>
  <cp:lastModifiedBy>Vista</cp:lastModifiedBy>
  <dcterms:modified xsi:type="dcterms:W3CDTF">2016-02-01T11:13:16Z</dcterms:modified>
  <cp:revision>27</cp:revision>
  <dc:subject/>
  <dc:title>SEX DIMORFNA NUCLEUS   PRAEOPTIČKOG PODRUČJA  HIPOTHALAMUS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746</vt:lpwstr>
  </property>
</Properties>
</file>